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226-6A30-4D32-A9A0-A1AA2CC8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06B-1009-4F5D-9F59-09FE297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318-DA41-4396-8540-31F9A4A7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BEC-8678-4DC4-8A04-69AEF486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622-976E-4B74-8EC2-12F511B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05D-403F-48D4-AAC0-C188AB97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142-7B9F-4F53-954B-0BA6332C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CF5-0650-4949-A68A-48C627E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2D5-023C-4139-885E-2189270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BBB-E438-4766-9F30-A43D1525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D23-570C-4A2A-AA01-569ABAD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FF0-A477-45DC-8760-FCC8C32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C603-C74C-4D61-B087-16466457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ea K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292" t="5178" r="218" b="6733"/>
          <a:stretch/>
        </p:blipFill>
        <p:spPr>
          <a:xfrm>
            <a:off x="1676520" y="152388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1066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3" t="4548" r="0" b="0"/>
          <a:stretch/>
        </p:blipFill>
        <p:spPr>
          <a:xfrm>
            <a:off x="380880" y="228600"/>
            <a:ext cx="4710240" cy="319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4429" r="0" b="0"/>
          <a:stretch/>
        </p:blipFill>
        <p:spPr>
          <a:xfrm>
            <a:off x="4114800" y="3429000"/>
            <a:ext cx="4724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PROCESSING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51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420" t="-1023" r="1337" b="11642"/>
          <a:stretch/>
        </p:blipFill>
        <p:spPr>
          <a:xfrm>
            <a:off x="457200" y="1143000"/>
            <a:ext cx="594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3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ULATION; PORTR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855" t="1566" r="0" b="7751"/>
          <a:stretch/>
        </p:blipFill>
        <p:spPr>
          <a:xfrm>
            <a:off x="0" y="0"/>
            <a:ext cx="4419720" cy="329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560" t="1907" r="1820" b="4798"/>
          <a:stretch/>
        </p:blipFill>
        <p:spPr>
          <a:xfrm>
            <a:off x="4572000" y="3244680"/>
            <a:ext cx="45720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2:04:57Z</dcterms:created>
  <dc:creator>bal_clkern</dc:creator>
  <dc:description/>
  <dc:language>en-US</dc:language>
  <cp:lastModifiedBy>bal_clkern</cp:lastModifiedBy>
  <dcterms:modified xsi:type="dcterms:W3CDTF">2009-05-21T22:00:47Z</dcterms:modified>
  <cp:revision>4</cp:revision>
  <dc:subject/>
  <dc:title>Slide 1</dc:title>
</cp:coreProperties>
</file>